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95F-14FC-4063-9271-A4B57BBB3583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DF50-CABD-4DCC-90F0-0271E7620752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01F9-9471-4C1D-A838-46C4D6100555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7E81-A9AB-4999-9FD7-87E384C2476C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39A4-DC0D-4152-B5D8-E5655430B652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320-EB7F-4104-8B6E-93BFF06CEB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F1D-B7F2-4467-8A0B-271AAC82F413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481-3EA9-40F5-A2B2-C197BE044FD8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281-3547-4FB0-9C9D-B63D6885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9BF-949B-4C52-8C09-19CF7E9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D4E-3948-49EB-8C4E-FB32ECF7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A1F-583F-44D5-BA2B-36BF08D2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40BA-BD4D-4F95-86CF-9EEC24E1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BB3E-1027-41AC-9443-CD6D09C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D295-7A0B-4CB6-B566-014D1F2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5595-0CFD-45CF-9A3F-E742A353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968-AE10-45BB-86B3-80D180C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7C25-D96F-4DA0-8D8A-B9CE86C0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8C4F-FC15-4549-B028-FB1C8F1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12A-DF5B-4314-87C8-65E5F607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FBF-2E22-46EC-A621-B7C609B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243A-B033-4D32-B341-C57EF15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865-6404-4706-A41B-5BA7C9C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C9A0-1F6F-4677-AFB8-F9584CEF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A577-1F97-4D19-AB7B-C27AB33B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5B1-B30F-44EA-A7EA-01A976C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F07-72AC-4770-BFBD-D36EF07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F4A-1219-46AC-B096-225B060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AA5-9F8A-458A-AAC4-07F4048E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3A4-0957-4C27-BB63-2EED45E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53D-35A1-4841-B73B-762001B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D6C-C6E1-491B-91F6-A9697EF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5B2A-6088-4903-A833-8FE10C012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A24-0EB8-4869-9045-E69B150843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ébat National de l'Energie _ Contexte Energétique Tunis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BF58-55BE-407E-ABC1-9896EC1AC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mailto:elkhazen@anme.nat.tn" TargetMode="External"/><Relationship Id="rId3" Type="http://schemas.openxmlformats.org/officeDocument/2006/relationships/hyperlink" Target="http://www.anme.nat.tn/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à coins arrondis 5"/>
          <p:cNvGrpSpPr/>
          <p:nvPr/>
        </p:nvGrpSpPr>
        <p:grpSpPr>
          <a:xfrm>
            <a:off x="152280" y="1536840"/>
            <a:ext cx="8759880" cy="2895480"/>
            <a:chOff x="152280" y="1536840"/>
            <a:chExt cx="8759880" cy="2895480"/>
          </a:xfrm>
        </p:grpSpPr>
        <p:pic>
          <p:nvPicPr>
            <p:cNvPr id="90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152280" y="1536840"/>
              <a:ext cx="87598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51000" y="1708200"/>
              <a:ext cx="8370720" cy="25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376092"/>
                  </a:solidFill>
                  <a:latin typeface="Arial Narrow"/>
                </a:rPr>
                <a:t>Opportunités de développement de l’énergie photovoltaïque :</a:t>
              </a:r>
              <a:br>
                <a:rPr sz="3200"/>
              </a:br>
              <a:r>
                <a:rPr b="1" lang="fr-FR" sz="3200" spc="-1" strike="noStrike">
                  <a:solidFill>
                    <a:srgbClr val="376092"/>
                  </a:solidFill>
                  <a:latin typeface="Arial Narrow"/>
                </a:rPr>
                <a:t>Cadre réglementaire et mesures d’encouragement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Connecteur droit 11"/>
          <p:cNvSpPr/>
          <p:nvPr/>
        </p:nvSpPr>
        <p:spPr>
          <a:xfrm>
            <a:off x="826920" y="4280040"/>
            <a:ext cx="7632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857160" y="46404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gency FB"/>
              </a:rPr>
              <a:t>Karim NEF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gency FB"/>
              </a:rPr>
              <a:t>Agence Nationale pour la Maîtrise de l’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893880" y="5805360"/>
            <a:ext cx="782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«OPPORTUNITÉS DE DÉVELOPPEMENT DU SOLAIRE PHOTOVOLTAÏQUE DANS LES SECTEURS AGRICOLE ET AGROALIMENTAIRE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SIAT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gency FB"/>
              </a:rPr>
              <a:t>PARC DES EXPOSITIONS DU KRAM, 20.10.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30240" y="44280"/>
            <a:ext cx="9078840" cy="167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99980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A LOI SUR LA PRODUCTION DE L’ÉLECTRICITÉ À PARTIR DES ÉNERGIES RENOUVELABLES</a:t>
            </a:r>
            <a:br>
              <a:rPr sz="3600"/>
            </a:br>
            <a:r>
              <a:rPr b="1" i="1" lang="fr-FR" sz="2400" spc="-1" strike="noStrike">
                <a:solidFill>
                  <a:srgbClr val="c00000"/>
                </a:solidFill>
                <a:latin typeface="Calibri"/>
              </a:rPr>
              <a:t>LOI N°12-2015 DU 11 MAI 201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24000" y="1104480"/>
            <a:ext cx="8388360" cy="1191240"/>
          </a:xfrm>
          <a:prstGeom prst="rect">
            <a:avLst/>
          </a:prstGeom>
          <a:noFill/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L’importance des investissements exige le recours aux sources de financement favorables à travers les différents mécanismes de la coopération internationale et la participation du secteur privé au financement et la réalisation des projets, en particulier les projets de production d’électricité renouvelable central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Diagramme 15" descr=""/>
          <p:cNvPicPr/>
          <p:nvPr/>
        </p:nvPicPr>
        <p:blipFill>
          <a:blip r:embed="rId1"/>
          <a:stretch/>
        </p:blipFill>
        <p:spPr>
          <a:xfrm>
            <a:off x="2030400" y="2475000"/>
            <a:ext cx="5065560" cy="1762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6"/>
          <p:cNvSpPr/>
          <p:nvPr/>
        </p:nvSpPr>
        <p:spPr>
          <a:xfrm>
            <a:off x="468360" y="4437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Nécessité de la mise en place d’un cadre réglementaire favorisant la mobilisation des investissements privés pour l’atteinte de l’objectif fixé pour le développement des é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e 17"/>
          <p:cNvGrpSpPr/>
          <p:nvPr/>
        </p:nvGrpSpPr>
        <p:grpSpPr>
          <a:xfrm>
            <a:off x="900000" y="5661000"/>
            <a:ext cx="7632720" cy="714240"/>
            <a:chOff x="900000" y="5661000"/>
            <a:chExt cx="7632720" cy="714240"/>
          </a:xfrm>
        </p:grpSpPr>
        <p:sp>
          <p:nvSpPr>
            <p:cNvPr id="196" name="Rectangle 18"/>
            <p:cNvSpPr/>
            <p:nvPr/>
          </p:nvSpPr>
          <p:spPr>
            <a:xfrm>
              <a:off x="900000" y="5661000"/>
              <a:ext cx="7632720" cy="7142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9"/>
            <p:cNvSpPr/>
            <p:nvPr/>
          </p:nvSpPr>
          <p:spPr>
            <a:xfrm>
              <a:off x="900000" y="5661000"/>
              <a:ext cx="7632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12240" tIns="12240" bIns="12240" anchor="ctr">
              <a:no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</a:rPr>
                <a:t>LA LOI SUR LA PRODUCTION DE L’ÉLECTRICITÉ À PARTIR DES ÉNERGIES RENOUVEL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Calibri"/>
                </a:rPr>
                <a:t>LOI N°12-2015 DU 11 MAI 20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Flèche droite 20"/>
          <p:cNvSpPr/>
          <p:nvPr/>
        </p:nvSpPr>
        <p:spPr>
          <a:xfrm>
            <a:off x="395280" y="5805360"/>
            <a:ext cx="43164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es Investisseurs Pot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necteur droit 10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Diagramme 1" descr=""/>
          <p:cNvPicPr/>
          <p:nvPr/>
        </p:nvPicPr>
        <p:blipFill>
          <a:blip r:embed="rId1"/>
          <a:stretch/>
        </p:blipFill>
        <p:spPr>
          <a:xfrm>
            <a:off x="414360" y="792000"/>
            <a:ext cx="8040600" cy="4980240"/>
          </a:xfrm>
          <a:prstGeom prst="rect">
            <a:avLst/>
          </a:prstGeom>
          <a:ln w="0">
            <a:noFill/>
          </a:ln>
        </p:spPr>
      </p:pic>
      <p:sp>
        <p:nvSpPr>
          <p:cNvPr id="202" name="Accolade fermante 4"/>
          <p:cNvSpPr/>
          <p:nvPr/>
        </p:nvSpPr>
        <p:spPr>
          <a:xfrm rot="5400000">
            <a:off x="2447280" y="3929040"/>
            <a:ext cx="287640" cy="352908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3529080"/>
              <a:gd name="textAreaBottom" fmla="*/ 352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ccolade fermante 5"/>
          <p:cNvSpPr/>
          <p:nvPr/>
        </p:nvSpPr>
        <p:spPr>
          <a:xfrm rot="5400000">
            <a:off x="6408360" y="3929040"/>
            <a:ext cx="287640" cy="352908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3529080"/>
              <a:gd name="textAreaBottom" fmla="*/ 352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6"/>
          <p:cNvSpPr/>
          <p:nvPr/>
        </p:nvSpPr>
        <p:spPr>
          <a:xfrm>
            <a:off x="5292720" y="590868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ISSION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7"/>
          <p:cNvSpPr/>
          <p:nvPr/>
        </p:nvSpPr>
        <p:spPr>
          <a:xfrm>
            <a:off x="1332000" y="5869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ISSION SUPÉRIE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necteur droit 11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8"/>
          <p:cNvSpPr/>
          <p:nvPr/>
        </p:nvSpPr>
        <p:spPr>
          <a:xfrm>
            <a:off x="5435640" y="2824200"/>
            <a:ext cx="33195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Objet de la loi, dé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5465880" y="4697280"/>
            <a:ext cx="36781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Examen des deman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714240" y="2695680"/>
            <a:ext cx="4434120" cy="4118040"/>
          </a:xfrm>
          <a:prstGeom prst="rect">
            <a:avLst/>
          </a:prstGeom>
          <a:solidFill>
            <a:srgbClr val="dce6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784520" y="3267000"/>
            <a:ext cx="6900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1844640" y="3887640"/>
            <a:ext cx="689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1844640" y="4552920"/>
            <a:ext cx="689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9"/>
          <p:cNvSpPr/>
          <p:nvPr/>
        </p:nvSpPr>
        <p:spPr>
          <a:xfrm>
            <a:off x="755640" y="2695680"/>
            <a:ext cx="7967520" cy="4118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858960" y="2781360"/>
            <a:ext cx="4144680" cy="3427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858960" y="3392640"/>
            <a:ext cx="4144680" cy="3441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 plan national de production d’électricité par les 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858960" y="4056120"/>
            <a:ext cx="4217760" cy="344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s régimes des projets autor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874800" y="4718160"/>
            <a:ext cx="4201920" cy="3445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a commission techni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6"/>
          <p:cNvSpPr/>
          <p:nvPr/>
        </p:nvSpPr>
        <p:spPr>
          <a:xfrm>
            <a:off x="1835280" y="521640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900000" y="5288040"/>
            <a:ext cx="4200480" cy="34452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Le sort des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1835280" y="580536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>
            <a:off x="900000" y="5877000"/>
            <a:ext cx="4200480" cy="3459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Contrôle, infractions et sa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900000" y="6381720"/>
            <a:ext cx="4200480" cy="344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</a:rPr>
              <a:t>Disposition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1835280" y="6308640"/>
            <a:ext cx="689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5429160" y="3359160"/>
            <a:ext cx="2959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Fixation des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5465880" y="5252760"/>
            <a:ext cx="306684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Démantèlement, poursuite de l’explo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3"/>
          <p:cNvSpPr/>
          <p:nvPr/>
        </p:nvSpPr>
        <p:spPr>
          <a:xfrm>
            <a:off x="5505480" y="5905440"/>
            <a:ext cx="3067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Modalité des contrô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5505480" y="6405480"/>
            <a:ext cx="30672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Dispositions transitoir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2664360" y="2266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Calibri"/>
              </a:rPr>
              <a:t>7 CHAPITRES  - 42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362160" y="333360"/>
            <a:ext cx="72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ÉSENTATION DE LA LOI N° 12-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Diagramme 47" descr=""/>
          <p:cNvPicPr/>
          <p:nvPr/>
        </p:nvPicPr>
        <p:blipFill>
          <a:blip r:embed="rId1"/>
          <a:stretch/>
        </p:blipFill>
        <p:spPr>
          <a:xfrm>
            <a:off x="-6480" y="890640"/>
            <a:ext cx="7645680" cy="1461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8"/>
          <p:cNvSpPr/>
          <p:nvPr/>
        </p:nvSpPr>
        <p:spPr>
          <a:xfrm>
            <a:off x="5473800" y="3958920"/>
            <a:ext cx="314316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marL="177840" indent="-177840">
              <a:buClr>
                <a:srgbClr val="376092"/>
              </a:buClr>
              <a:buSzPct val="70000"/>
              <a:buFont typeface="Tahoma"/>
              <a:buChar char="–"/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fr-FR" sz="1600" spc="-1" strike="noStrike">
                <a:solidFill>
                  <a:srgbClr val="376092"/>
                </a:solidFill>
                <a:latin typeface="Arial"/>
              </a:rPr>
              <a:t>Autoproduction, Production privée,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necteur droit 33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iagramme 1" descr=""/>
          <p:cNvPicPr/>
          <p:nvPr/>
        </p:nvPicPr>
        <p:blipFill>
          <a:blip r:embed="rId1"/>
          <a:stretch/>
        </p:blipFill>
        <p:spPr>
          <a:xfrm>
            <a:off x="1384200" y="901800"/>
            <a:ext cx="7381800" cy="5413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Présentation générale de la loi n° 12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1439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A DÉCRET D’APPLICATION DE LA LOI N012-2015</a:t>
            </a:r>
            <a:br>
              <a:rPr sz="3600"/>
            </a:br>
            <a:br>
              <a:rPr sz="3600"/>
            </a:br>
            <a:r>
              <a:rPr b="1" i="1" lang="fr-FR" sz="2400" spc="-1" strike="noStrike">
                <a:solidFill>
                  <a:srgbClr val="c00000"/>
                </a:solidFill>
                <a:latin typeface="Calibri"/>
              </a:rPr>
              <a:t>DÉCRET N°1123-2016 DU 24 AOUT 201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24000" y="993600"/>
            <a:ext cx="8280360" cy="5443200"/>
          </a:xfrm>
          <a:prstGeom prst="rect">
            <a:avLst/>
          </a:prstGeom>
          <a:solidFill>
            <a:srgbClr val="c9fa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ahier des charges techniques de raccordement au réseau: préparés et soumis à une consultation publique du 03 au 10 Mars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ontrats d’achats pour l’autoproduction: préparés et soumis à une consultation publique du 03 au 10 Mars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Bell MT"/>
              </a:rPr>
              <a:t>Contrat d’achat pour la vente totale (PPA): en cours d’élaboration et sera soumis à une consultation publique cette se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Annonce annuelle: défini les puissance annuelle à dévelop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Le tarif d’achat: sera défini par arrêté ministériel (en cours d’é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Manuel de procédures qui défini les procédures de gestion pour la commission technique en charge de l’étude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Bell MT"/>
              </a:rPr>
              <a:t>Les documents d’appel d’offres pour le régime de concession (en cours d’élabo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re 1"/>
          <p:cNvSpPr/>
          <p:nvPr/>
        </p:nvSpPr>
        <p:spPr>
          <a:xfrm>
            <a:off x="430200" y="-1035000"/>
            <a:ext cx="8713800" cy="60624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necteur droit 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9115560" cy="1000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2813040" cy="3762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3500280" y="3071880"/>
            <a:ext cx="2762280" cy="3424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4"/>
          <a:stretch/>
        </p:blipFill>
        <p:spPr>
          <a:xfrm>
            <a:off x="6429240" y="3071880"/>
            <a:ext cx="2408400" cy="31766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Textes d’application en cours d’é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necteur droit 8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00040" y="137952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1916280"/>
          <a:ext cx="8215560" cy="4238280"/>
        </p:xfrm>
        <a:graphic>
          <a:graphicData uri="http://schemas.openxmlformats.org/drawingml/2006/table">
            <a:tbl>
              <a:tblPr/>
              <a:tblGrid>
                <a:gridCol w="1697040"/>
                <a:gridCol w="1255680"/>
                <a:gridCol w="526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t énergé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jets dé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vestissements immatér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vestissements matér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0.000 D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onsommation inférieure à 4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 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sommation comprise entre 4.000  et  7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Consommation supérieure à 7.000 Tep/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00040" y="148428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42960" y="2806560"/>
          <a:ext cx="8215200" cy="3791160"/>
        </p:xfrm>
        <a:graphic>
          <a:graphicData uri="http://schemas.openxmlformats.org/drawingml/2006/table">
            <a:tbl>
              <a:tblPr/>
              <a:tblGrid>
                <a:gridCol w="2738520"/>
                <a:gridCol w="1141200"/>
                <a:gridCol w="433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cordement réseau GN indust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 secteur pê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cs diagnostic mo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cordement réseau GN résiden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DT (logement individu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DT (logement collecti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uffage solaire  de l’eau - secteur résiden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DT (1 à 3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DT (3 à 7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uffage solaire  de l’eau - secteur terti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DT (par m2 capte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10920" y="1125360"/>
            <a:ext cx="79786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étérioration des ressources nationales (-6%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Augmentation de la demande (+2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éficit énergétique structurel : 3.8 Mtep en 2014; 0.5 Mtep en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Importation de 40% des besoins en énergie prima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5"/>
          <p:cNvSpPr/>
          <p:nvPr/>
        </p:nvSpPr>
        <p:spPr>
          <a:xfrm rot="16200000">
            <a:off x="-374040" y="1579320"/>
            <a:ext cx="1403280" cy="2764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ergie Prim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 rot="16200000">
            <a:off x="-342360" y="3102840"/>
            <a:ext cx="1413000" cy="3373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lec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7"/>
          <p:cNvSpPr/>
          <p:nvPr/>
        </p:nvSpPr>
        <p:spPr>
          <a:xfrm rot="16200000">
            <a:off x="-277920" y="4493520"/>
            <a:ext cx="128412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az natu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8"/>
          <p:cNvSpPr/>
          <p:nvPr/>
        </p:nvSpPr>
        <p:spPr>
          <a:xfrm rot="16200000">
            <a:off x="-369360" y="5937480"/>
            <a:ext cx="1436400" cy="307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nouvel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>
            <a:off x="684360" y="242100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5"/>
          <p:cNvSpPr/>
          <p:nvPr/>
        </p:nvSpPr>
        <p:spPr>
          <a:xfrm>
            <a:off x="611280" y="2421000"/>
            <a:ext cx="59767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uissance installée: 520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roduction :17 672 GW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Croissance de la demande: 5% par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Taux d'électrification :  99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Un mix presque totalement Gaz Naturel : 9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>
            <a:off x="611280" y="400536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11280" y="4005360"/>
            <a:ext cx="61214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Production nationale : 4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Importation: 48 % - Redevances : 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Consommation : 75%  pour la production élect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Disponibilité 2030: 20% des beso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4"/>
          <p:cNvSpPr/>
          <p:nvPr/>
        </p:nvSpPr>
        <p:spPr>
          <a:xfrm>
            <a:off x="684360" y="537372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684360" y="5487840"/>
            <a:ext cx="835164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Ressources importantes (éolien, sola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Un grand potentiel pour la production d’élec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Bell MT"/>
              </a:rPr>
              <a:t>Réalisations limitées: 245 MW éolien – 65 MW hydraulique – 25 MW PV (solar roo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735520" y="1859040"/>
            <a:ext cx="3487680" cy="4475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Le Contexte Energétique Tunisi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nnecteur droit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000" y="148428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Avantages accordés par le 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42960" y="2495520"/>
          <a:ext cx="8215200" cy="3746520"/>
        </p:xfrm>
        <a:graphic>
          <a:graphicData uri="http://schemas.openxmlformats.org/drawingml/2006/table">
            <a:tbl>
              <a:tblPr/>
              <a:tblGrid>
                <a:gridCol w="2738520"/>
                <a:gridCol w="1141200"/>
                <a:gridCol w="43354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f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géné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.000 DT /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clairage &amp; pompage solaire et éolien fer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bio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énération électricité à partir bio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PV raccordé au réseau (Bâtiments solai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afond 3.000 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géné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.000 DT /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7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728676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adre incitatif de la maîtrise de l’é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760" y="1500120"/>
            <a:ext cx="850104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matières premières, produits semi-finis et équipements utilisés dans la maîtrise de l’énergie bénéficient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a suspension de la T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a réduction au taux de 10 % des droits de dou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produits et équipements sont classés en 4 lis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Les listes sont actualisées par décr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14280" y="3571920"/>
          <a:ext cx="6715440" cy="2367000"/>
        </p:xfrm>
        <a:graphic>
          <a:graphicData uri="http://schemas.openxmlformats.org/drawingml/2006/table">
            <a:tbl>
              <a:tblPr/>
              <a:tblGrid>
                <a:gridCol w="1343160"/>
                <a:gridCol w="1343160"/>
                <a:gridCol w="1342800"/>
                <a:gridCol w="1343160"/>
                <a:gridCol w="134316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Prem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Prem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é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 Prévisionnel Fabrication (approuvé par AN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ilège Fisc. Sur Attestation AN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4" name="Rectangle 10"/>
          <p:cNvSpPr/>
          <p:nvPr/>
        </p:nvSpPr>
        <p:spPr>
          <a:xfrm>
            <a:off x="3169440" y="1011240"/>
            <a:ext cx="294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Bell MT"/>
              </a:rPr>
              <a:t>Avantages fisc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onnecteur droit 9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ZoneTexte 8"/>
          <p:cNvGrpSpPr/>
          <p:nvPr/>
        </p:nvGrpSpPr>
        <p:grpSpPr>
          <a:xfrm>
            <a:off x="5230800" y="4998960"/>
            <a:ext cx="3913200" cy="1505160"/>
            <a:chOff x="5230800" y="4998960"/>
            <a:chExt cx="3913200" cy="1505160"/>
          </a:xfrm>
        </p:grpSpPr>
        <p:pic>
          <p:nvPicPr>
            <p:cNvPr id="268" name="ZoneTexte 8" descr=""/>
            <p:cNvPicPr/>
            <p:nvPr/>
          </p:nvPicPr>
          <p:blipFill>
            <a:blip r:embed="rId1"/>
            <a:stretch/>
          </p:blipFill>
          <p:spPr>
            <a:xfrm>
              <a:off x="5230800" y="4998960"/>
              <a:ext cx="39132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292720" y="5033880"/>
              <a:ext cx="3743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Email: </a:t>
              </a:r>
              <a:r>
                <a:rPr b="0" lang="en-US" sz="1400" spc="-1" strike="noStrike" u="sng">
                  <a:solidFill>
                    <a:srgbClr val="0000ff"/>
                  </a:solidFill>
                  <a:uFillTx/>
                  <a:latin typeface="Calibri"/>
                  <a:ea typeface="BrowalliaUPC"/>
                  <a:hlinkClick r:id="rId2"/>
                </a:rPr>
                <a:t>karim.nefzi@anme.nat.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Site Web: </a:t>
              </a:r>
              <a:r>
                <a:rPr b="0" lang="en-US" sz="1400" spc="-1" strike="noStrike" u="sng">
                  <a:solidFill>
                    <a:srgbClr val="0000ff"/>
                  </a:solidFill>
                  <a:uFillTx/>
                  <a:latin typeface="Calibri"/>
                  <a:ea typeface="BrowalliaUPC"/>
                  <a:hlinkClick r:id="rId3"/>
                </a:rPr>
                <a:t>www.anme.nat.tn</a:t>
              </a: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Tél:  71 906 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6092"/>
                  </a:solidFill>
                  <a:latin typeface="Calibri"/>
                  <a:ea typeface="BrowalliaUPC"/>
                </a:rPr>
                <a:t>Fax: 71 904 62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3"/>
          <p:cNvSpPr/>
          <p:nvPr/>
        </p:nvSpPr>
        <p:spPr>
          <a:xfrm>
            <a:off x="4572000" y="4857840"/>
            <a:ext cx="4572000" cy="95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4"/>
          <a:stretch/>
        </p:blipFill>
        <p:spPr>
          <a:xfrm>
            <a:off x="108000" y="476280"/>
            <a:ext cx="60897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011320" cy="234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7118280" y="2357280"/>
            <a:ext cx="202572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Rectangle 6"/>
          <p:cNvSpPr/>
          <p:nvPr/>
        </p:nvSpPr>
        <p:spPr>
          <a:xfrm>
            <a:off x="0" y="1571760"/>
            <a:ext cx="37274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tentiel Eoli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68200" y="6429240"/>
            <a:ext cx="8834400" cy="3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6 millions de tonnes de déchets valorisables pour la production d’électric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5840" y="4572000"/>
            <a:ext cx="30956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hauffe eau solai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illions de 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7"/>
          <p:cNvSpPr/>
          <p:nvPr/>
        </p:nvSpPr>
        <p:spPr>
          <a:xfrm>
            <a:off x="8786880" y="6429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1B7-496E-412E-903A-9C79E0688F81}" type="slidenum">
              <a:rPr b="1" lang="ar-TN" sz="1200" spc="-1" strike="noStrike">
                <a:solidFill>
                  <a:srgbClr val="898989"/>
                </a:solidFill>
                <a:latin typeface="Arial"/>
                <a:ea typeface="Times New Roman (Arabic)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13" descr="pvtunisia.jpg"/>
          <p:cNvPicPr/>
          <p:nvPr/>
        </p:nvPicPr>
        <p:blipFill>
          <a:blip r:embed="rId3"/>
          <a:stretch/>
        </p:blipFill>
        <p:spPr>
          <a:xfrm>
            <a:off x="3571920" y="3000240"/>
            <a:ext cx="1655640" cy="12398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0" y="2928960"/>
            <a:ext cx="3174840" cy="8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tentiel Solai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900 G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نتيجة بحث الصور عن ‪renewable‬‏"/>
          <p:cNvPicPr/>
          <p:nvPr/>
        </p:nvPicPr>
        <p:blipFill>
          <a:blip r:embed="rId4"/>
          <a:stretch/>
        </p:blipFill>
        <p:spPr>
          <a:xfrm>
            <a:off x="3429000" y="15001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 19" descr="soften.jpg"/>
          <p:cNvPicPr/>
          <p:nvPr/>
        </p:nvPicPr>
        <p:blipFill>
          <a:blip r:embed="rId5"/>
          <a:stretch/>
        </p:blipFill>
        <p:spPr>
          <a:xfrm>
            <a:off x="3429000" y="4572000"/>
            <a:ext cx="1343160" cy="1343160"/>
          </a:xfrm>
          <a:prstGeom prst="rect">
            <a:avLst/>
          </a:prstGeom>
          <a:ln w="0">
            <a:noFill/>
          </a:ln>
        </p:spPr>
      </p:pic>
      <p:sp>
        <p:nvSpPr>
          <p:cNvPr id="123" name="Plus 20"/>
          <p:cNvSpPr/>
          <p:nvPr/>
        </p:nvSpPr>
        <p:spPr>
          <a:xfrm>
            <a:off x="-14400" y="6353280"/>
            <a:ext cx="505080" cy="504720"/>
          </a:xfrm>
          <a:custGeom>
            <a:avLst/>
            <a:gdLst>
              <a:gd name="textAreaLeft" fmla="*/ 66960 w 505080"/>
              <a:gd name="textAreaRight" fmla="*/ 438120 w 505080"/>
              <a:gd name="textAreaTop" fmla="*/ 192960 h 504720"/>
              <a:gd name="textAreaBottom" fmla="*/ 311760 h 504720"/>
            </a:gdLst>
            <a:ahLst/>
            <a:rect l="textAreaLeft" t="textAreaTop" r="textAreaRight" b="textAreaBottom"/>
            <a:pathLst>
              <a:path w="504826" h="504825">
                <a:moveTo>
                  <a:pt x="66915" y="193045"/>
                </a:moveTo>
                <a:lnTo>
                  <a:pt x="193046" y="193045"/>
                </a:lnTo>
                <a:lnTo>
                  <a:pt x="193046" y="66915"/>
                </a:lnTo>
                <a:lnTo>
                  <a:pt x="311780" y="66915"/>
                </a:lnTo>
                <a:lnTo>
                  <a:pt x="311780" y="193045"/>
                </a:lnTo>
                <a:lnTo>
                  <a:pt x="437911" y="193045"/>
                </a:lnTo>
                <a:lnTo>
                  <a:pt x="437911" y="311780"/>
                </a:lnTo>
                <a:lnTo>
                  <a:pt x="311780" y="311780"/>
                </a:lnTo>
                <a:lnTo>
                  <a:pt x="311780" y="437910"/>
                </a:lnTo>
                <a:lnTo>
                  <a:pt x="193046" y="437910"/>
                </a:lnTo>
                <a:lnTo>
                  <a:pt x="193046" y="311780"/>
                </a:lnTo>
                <a:lnTo>
                  <a:pt x="66915" y="31178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necteur droit 19"/>
          <p:cNvSpPr/>
          <p:nvPr/>
        </p:nvSpPr>
        <p:spPr>
          <a:xfrm>
            <a:off x="0" y="92880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5425920" y="1139760"/>
            <a:ext cx="327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potentiel important surtout pour l’énergie solaire et éolie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16020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Potentiel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"/>
          <p:cNvPicPr/>
          <p:nvPr/>
        </p:nvPicPr>
        <p:blipFill>
          <a:blip r:embed="rId1"/>
          <a:stretch/>
        </p:blipFill>
        <p:spPr>
          <a:xfrm>
            <a:off x="4468680" y="2448000"/>
            <a:ext cx="4505400" cy="42958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24"/>
          <p:cNvSpPr/>
          <p:nvPr/>
        </p:nvSpPr>
        <p:spPr>
          <a:xfrm>
            <a:off x="4921200" y="5207040"/>
            <a:ext cx="388800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Réaliser une économie d’énergie totale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 16 millions de Tep durant la période 2016-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contenu 2"/>
          <p:cNvSpPr/>
          <p:nvPr/>
        </p:nvSpPr>
        <p:spPr>
          <a:xfrm>
            <a:off x="152280" y="3083040"/>
            <a:ext cx="4033800" cy="36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Installer une puissance électrique à partir des ER supplémentaire d’environ 950 MW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Eolien : 53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Solaire : 37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2f2f2"/>
              </a:buClr>
              <a:buSzPct val="8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2f2f2"/>
                </a:solidFill>
                <a:latin typeface="Arial"/>
              </a:rPr>
              <a:t>Biomasse : 4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Installer 570 mille m</a:t>
            </a:r>
            <a:r>
              <a:rPr b="1" lang="fr-FR" sz="1600" spc="-1" strike="noStrike" baseline="30000">
                <a:solidFill>
                  <a:srgbClr val="f2f2f2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 de Chauffe Eau So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297000" y="2577960"/>
            <a:ext cx="3876480" cy="33732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2f2f2"/>
                </a:solidFill>
                <a:latin typeface="Arial"/>
              </a:rPr>
              <a:t>Objectif de développement 2016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12"/>
          <p:cNvSpPr/>
          <p:nvPr/>
        </p:nvSpPr>
        <p:spPr>
          <a:xfrm>
            <a:off x="52560" y="1052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13"/>
          <p:cNvSpPr/>
          <p:nvPr/>
        </p:nvSpPr>
        <p:spPr>
          <a:xfrm>
            <a:off x="6985080" y="65548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389-C8F4-4419-A201-80C4159BA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"/>
          <p:cNvSpPr/>
          <p:nvPr/>
        </p:nvSpPr>
        <p:spPr>
          <a:xfrm>
            <a:off x="5521320" y="3098880"/>
            <a:ext cx="164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de réfé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"/>
          <p:cNvSpPr/>
          <p:nvPr/>
        </p:nvSpPr>
        <p:spPr>
          <a:xfrm>
            <a:off x="5519880" y="3300480"/>
            <a:ext cx="230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"/>
          <p:cNvSpPr/>
          <p:nvPr/>
        </p:nvSpPr>
        <p:spPr>
          <a:xfrm>
            <a:off x="5511960" y="3490920"/>
            <a:ext cx="150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cenario EE +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"/>
          <p:cNvSpPr/>
          <p:nvPr/>
        </p:nvSpPr>
        <p:spPr>
          <a:xfrm>
            <a:off x="5438880" y="2492280"/>
            <a:ext cx="25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Arial"/>
              </a:rPr>
              <a:t>Economie en combustible pour la production d’électric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 rot="20580000">
            <a:off x="7148520" y="3606840"/>
            <a:ext cx="1182600" cy="258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"/>
          <p:cNvSpPr/>
          <p:nvPr/>
        </p:nvSpPr>
        <p:spPr>
          <a:xfrm rot="20598600">
            <a:off x="7027920" y="3549600"/>
            <a:ext cx="1387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conomie engendré par l’Efficacité Energé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 rot="20683200">
            <a:off x="7054920" y="4084560"/>
            <a:ext cx="1332000" cy="289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"/>
          <p:cNvSpPr/>
          <p:nvPr/>
        </p:nvSpPr>
        <p:spPr>
          <a:xfrm rot="20685000">
            <a:off x="6958080" y="4043160"/>
            <a:ext cx="1503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conomie engendré par les Energies Renouve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-30240" y="1252440"/>
            <a:ext cx="90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gmenter la participation des énergies renouvelables dans la production d’électricité jusqu’à 30 % en 20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d’autres usages des énergies renouvelables comme le pompage et le chauffe eau s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"/>
          <p:cNvSpPr/>
          <p:nvPr/>
        </p:nvSpPr>
        <p:spPr>
          <a:xfrm>
            <a:off x="4727520" y="2503440"/>
            <a:ext cx="164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K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509760" y="390600"/>
            <a:ext cx="79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Objectifs de Développement des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e 20"/>
          <p:cNvGrpSpPr/>
          <p:nvPr/>
        </p:nvGrpSpPr>
        <p:grpSpPr>
          <a:xfrm>
            <a:off x="2050920" y="6093000"/>
            <a:ext cx="5004720" cy="428760"/>
            <a:chOff x="2050920" y="6093000"/>
            <a:chExt cx="5004720" cy="428760"/>
          </a:xfrm>
        </p:grpSpPr>
        <p:sp>
          <p:nvSpPr>
            <p:cNvPr id="148" name="Rectangle 15"/>
            <p:cNvSpPr/>
            <p:nvPr/>
          </p:nvSpPr>
          <p:spPr>
            <a:xfrm>
              <a:off x="2050920" y="6191280"/>
              <a:ext cx="225360" cy="206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5153760" y="6226200"/>
              <a:ext cx="221400" cy="207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ZoneTexte 26"/>
            <p:cNvSpPr/>
            <p:nvPr/>
          </p:nvSpPr>
          <p:spPr>
            <a:xfrm>
              <a:off x="2158920" y="609300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ossi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ZoneTexte 34"/>
            <p:cNvSpPr/>
            <p:nvPr/>
          </p:nvSpPr>
          <p:spPr>
            <a:xfrm>
              <a:off x="5315760" y="6122880"/>
              <a:ext cx="17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nouvel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e 29"/>
          <p:cNvGrpSpPr/>
          <p:nvPr/>
        </p:nvGrpSpPr>
        <p:grpSpPr>
          <a:xfrm>
            <a:off x="250920" y="1628640"/>
            <a:ext cx="2881080" cy="3888000"/>
            <a:chOff x="250920" y="1628640"/>
            <a:chExt cx="2881080" cy="3888000"/>
          </a:xfrm>
        </p:grpSpPr>
        <p:sp>
          <p:nvSpPr>
            <p:cNvPr id="153" name="Rectangle 21"/>
            <p:cNvSpPr/>
            <p:nvPr/>
          </p:nvSpPr>
          <p:spPr>
            <a:xfrm>
              <a:off x="250920" y="1628640"/>
              <a:ext cx="2881080" cy="388800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Inhaltsplatzhalter 2"/>
            <p:cNvSpPr/>
            <p:nvPr/>
          </p:nvSpPr>
          <p:spPr>
            <a:xfrm>
              <a:off x="971280" y="1844640"/>
              <a:ext cx="145152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 </a:t>
              </a: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5" descr=""/>
            <p:cNvPicPr/>
            <p:nvPr/>
          </p:nvPicPr>
          <p:blipFill>
            <a:blip r:embed="rId1"/>
            <a:srcRect l="10468" t="4203" r="10850" b="3689"/>
            <a:stretch/>
          </p:blipFill>
          <p:spPr>
            <a:xfrm>
              <a:off x="682920" y="2420640"/>
              <a:ext cx="2129040" cy="20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ZoneTexte 20"/>
            <p:cNvSpPr/>
            <p:nvPr/>
          </p:nvSpPr>
          <p:spPr>
            <a:xfrm>
              <a:off x="1316880" y="3877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9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7"/>
            <p:cNvSpPr/>
            <p:nvPr/>
          </p:nvSpPr>
          <p:spPr>
            <a:xfrm>
              <a:off x="898920" y="4652640"/>
              <a:ext cx="172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4f81bd"/>
                  </a:solidFill>
                  <a:latin typeface="Arial"/>
                  <a:ea typeface="MS PGothic"/>
                </a:rPr>
                <a:t>16 800 G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e 32"/>
          <p:cNvGrpSpPr/>
          <p:nvPr/>
        </p:nvGrpSpPr>
        <p:grpSpPr>
          <a:xfrm>
            <a:off x="6084720" y="1628640"/>
            <a:ext cx="2880000" cy="3888000"/>
            <a:chOff x="6084720" y="1628640"/>
            <a:chExt cx="2880000" cy="3888000"/>
          </a:xfrm>
        </p:grpSpPr>
        <p:sp>
          <p:nvSpPr>
            <p:cNvPr id="159" name="Rectangle 24"/>
            <p:cNvSpPr/>
            <p:nvPr/>
          </p:nvSpPr>
          <p:spPr>
            <a:xfrm>
              <a:off x="6084720" y="1628640"/>
              <a:ext cx="2880000" cy="388800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e 3"/>
            <p:cNvGrpSpPr/>
            <p:nvPr/>
          </p:nvGrpSpPr>
          <p:grpSpPr>
            <a:xfrm>
              <a:off x="6588720" y="2348640"/>
              <a:ext cx="2013120" cy="2021040"/>
              <a:chOff x="6588720" y="2348640"/>
              <a:chExt cx="2013120" cy="2021040"/>
            </a:xfrm>
          </p:grpSpPr>
          <p:pic>
            <p:nvPicPr>
              <p:cNvPr id="161" name="Picture 3" descr=""/>
              <p:cNvPicPr/>
              <p:nvPr/>
            </p:nvPicPr>
            <p:blipFill>
              <a:blip r:embed="rId2"/>
              <a:srcRect l="9321" t="4260" r="10317" b="4975"/>
              <a:stretch/>
            </p:blipFill>
            <p:spPr>
              <a:xfrm>
                <a:off x="6588720" y="2348640"/>
                <a:ext cx="2013120" cy="20210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62" name="ZoneTexte 2"/>
              <p:cNvSpPr/>
              <p:nvPr/>
            </p:nvSpPr>
            <p:spPr>
              <a:xfrm>
                <a:off x="6832440" y="287460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3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ZoneTexte 14"/>
              <p:cNvSpPr/>
              <p:nvPr/>
            </p:nvSpPr>
            <p:spPr>
              <a:xfrm>
                <a:off x="7721280" y="344340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7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Inhaltsplatzhalter 2"/>
            <p:cNvSpPr/>
            <p:nvPr/>
          </p:nvSpPr>
          <p:spPr>
            <a:xfrm>
              <a:off x="6787080" y="1642320"/>
              <a:ext cx="1414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1" lang="de-DE" sz="1800" spc="-1" strike="noStrike">
                  <a:solidFill>
                    <a:srgbClr val="1f497d"/>
                  </a:solidFill>
                  <a:latin typeface="Arial"/>
                  <a:ea typeface="MS PGothic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6452280" y="464256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4f81bd"/>
                  </a:solidFill>
                  <a:latin typeface="Arial"/>
                  <a:ea typeface="MS PGothic"/>
                </a:rPr>
                <a:t>37 000 G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e 30"/>
          <p:cNvGrpSpPr/>
          <p:nvPr/>
        </p:nvGrpSpPr>
        <p:grpSpPr>
          <a:xfrm>
            <a:off x="3419640" y="2852640"/>
            <a:ext cx="2376720" cy="863280"/>
            <a:chOff x="3419640" y="2852640"/>
            <a:chExt cx="2376720" cy="863280"/>
          </a:xfrm>
        </p:grpSpPr>
        <p:sp>
          <p:nvSpPr>
            <p:cNvPr id="167" name="ZoneTexte 23"/>
            <p:cNvSpPr/>
            <p:nvPr/>
          </p:nvSpPr>
          <p:spPr>
            <a:xfrm>
              <a:off x="3668400" y="2852640"/>
              <a:ext cx="21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Scénario propos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lèche droite rayée 28"/>
            <p:cNvSpPr/>
            <p:nvPr/>
          </p:nvSpPr>
          <p:spPr>
            <a:xfrm>
              <a:off x="3419640" y="3284280"/>
              <a:ext cx="2376720" cy="431640"/>
            </a:xfrm>
            <a:custGeom>
              <a:avLst/>
              <a:gdLst>
                <a:gd name="textAreaLeft" fmla="*/ 67320 w 2376720"/>
                <a:gd name="textAreaRight" fmla="*/ 2268720 w 237672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376396" h="432048">
                  <a:moveTo>
                    <a:pt x="0" y="108012"/>
                  </a:moveTo>
                  <a:lnTo>
                    <a:pt x="13502" y="108012"/>
                  </a:lnTo>
                  <a:lnTo>
                    <a:pt x="13502" y="324036"/>
                  </a:lnTo>
                  <a:lnTo>
                    <a:pt x="0" y="324036"/>
                  </a:lnTo>
                  <a:close/>
                  <a:moveTo>
                    <a:pt x="27003" y="108012"/>
                  </a:moveTo>
                  <a:lnTo>
                    <a:pt x="54006" y="108012"/>
                  </a:lnTo>
                  <a:lnTo>
                    <a:pt x="54006" y="324036"/>
                  </a:lnTo>
                  <a:lnTo>
                    <a:pt x="27003" y="324036"/>
                  </a:lnTo>
                  <a:close/>
                  <a:moveTo>
                    <a:pt x="67507" y="108012"/>
                  </a:moveTo>
                  <a:lnTo>
                    <a:pt x="2160372" y="108012"/>
                  </a:lnTo>
                  <a:lnTo>
                    <a:pt x="2160372" y="0"/>
                  </a:lnTo>
                  <a:lnTo>
                    <a:pt x="2376396" y="216024"/>
                  </a:lnTo>
                  <a:lnTo>
                    <a:pt x="2160372" y="432048"/>
                  </a:lnTo>
                  <a:lnTo>
                    <a:pt x="2160372" y="324036"/>
                  </a:lnTo>
                  <a:lnTo>
                    <a:pt x="67507" y="324036"/>
                  </a:lnTo>
                  <a:close/>
                </a:path>
              </a:pathLst>
            </a:custGeom>
            <a:solidFill>
              <a:srgbClr val="c0504d"/>
            </a:solidFill>
            <a:ln w="25560">
              <a:solidFill>
                <a:srgbClr val="8c38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1"/>
          <p:cNvSpPr/>
          <p:nvPr/>
        </p:nvSpPr>
        <p:spPr>
          <a:xfrm>
            <a:off x="577800" y="26028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Mix pour la production électrique en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cteur droit 27"/>
          <p:cNvSpPr/>
          <p:nvPr/>
        </p:nvSpPr>
        <p:spPr>
          <a:xfrm>
            <a:off x="-14400" y="105264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oneTexte 5"/>
          <p:cNvSpPr/>
          <p:nvPr/>
        </p:nvSpPr>
        <p:spPr>
          <a:xfrm>
            <a:off x="533520" y="1125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81bd"/>
                </a:solidFill>
                <a:latin typeface="Baskerville Old Face"/>
              </a:rPr>
              <a:t>30%</a:t>
            </a:r>
            <a:r>
              <a:rPr b="1" lang="fr-FR" sz="2000" spc="-1" strike="noStrike">
                <a:solidFill>
                  <a:srgbClr val="002060"/>
                </a:solidFill>
                <a:latin typeface="Bell MT"/>
              </a:rPr>
              <a:t> d’électricité par les énergies renouvelables  en </a:t>
            </a:r>
            <a:r>
              <a:rPr b="1" lang="fr-FR" sz="2400" spc="-1" strike="noStrike">
                <a:solidFill>
                  <a:srgbClr val="002060"/>
                </a:solidFill>
                <a:latin typeface="Baskerville Old Face"/>
              </a:rPr>
              <a:t>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21"/>
          <p:cNvSpPr/>
          <p:nvPr/>
        </p:nvSpPr>
        <p:spPr>
          <a:xfrm>
            <a:off x="324000" y="2317680"/>
            <a:ext cx="4011480" cy="414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Part  des ER dans le mix élect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24"/>
          <p:cNvSpPr/>
          <p:nvPr/>
        </p:nvSpPr>
        <p:spPr>
          <a:xfrm>
            <a:off x="702360" y="6237360"/>
            <a:ext cx="7745760" cy="398880"/>
          </a:xfrm>
          <a:prstGeom prst="rect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nvestissement nécessaire cumulé :  2020 – 3 680 M€ / 2030 – 6 340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Graphique 26"/>
          <p:cNvGraphicFramePr/>
          <p:nvPr/>
        </p:nvGraphicFramePr>
        <p:xfrm>
          <a:off x="324000" y="2820960"/>
          <a:ext cx="403200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Graphique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20960"/>
                    <a:ext cx="403200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ZoneTexte 27"/>
          <p:cNvSpPr/>
          <p:nvPr/>
        </p:nvSpPr>
        <p:spPr>
          <a:xfrm>
            <a:off x="4716360" y="2317680"/>
            <a:ext cx="4011840" cy="414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apacités ER à installer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phique 28" descr=""/>
          <p:cNvPicPr/>
          <p:nvPr/>
        </p:nvPicPr>
        <p:blipFill>
          <a:blip r:embed="rId3"/>
          <a:stretch/>
        </p:blipFill>
        <p:spPr>
          <a:xfrm>
            <a:off x="4788000" y="2820960"/>
            <a:ext cx="3960720" cy="2608200"/>
          </a:xfrm>
          <a:prstGeom prst="rect">
            <a:avLst/>
          </a:prstGeom>
          <a:ln w="0">
            <a:noFill/>
          </a:ln>
        </p:spPr>
      </p:pic>
      <p:sp>
        <p:nvSpPr>
          <p:cNvPr id="178" name="Chevron 31"/>
          <p:cNvSpPr/>
          <p:nvPr/>
        </p:nvSpPr>
        <p:spPr>
          <a:xfrm>
            <a:off x="826920" y="126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6" y="0"/>
                </a:lnTo>
                <a:lnTo>
                  <a:pt x="21600" y="10800"/>
                </a:lnTo>
                <a:lnTo>
                  <a:pt x="14846" y="21600"/>
                </a:lnTo>
                <a:lnTo>
                  <a:pt x="0" y="21600"/>
                </a:lnTo>
                <a:lnTo>
                  <a:pt x="6754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519120" y="16020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Objectifs de Développement des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Espace réservé du contenu 3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072200" cy="4714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Prévision de la capacité électrique installée d’origine renouvelable par filière  en Tun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6"/>
          <p:cNvSpPr/>
          <p:nvPr/>
        </p:nvSpPr>
        <p:spPr>
          <a:xfrm>
            <a:off x="428760" y="6143760"/>
            <a:ext cx="835164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olien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755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olaire PV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510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SP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50 MW /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iomass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Espace réservé du contenu 3" descr=""/>
          <p:cNvPicPr/>
          <p:nvPr/>
        </p:nvPicPr>
        <p:blipFill>
          <a:blip r:embed="rId1"/>
          <a:srcRect l="24085" t="16371" r="18023" b="2365"/>
          <a:stretch/>
        </p:blipFill>
        <p:spPr>
          <a:xfrm>
            <a:off x="2071800" y="2000160"/>
            <a:ext cx="478620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1"/>
          <p:cNvSpPr/>
          <p:nvPr/>
        </p:nvSpPr>
        <p:spPr>
          <a:xfrm>
            <a:off x="519120" y="1602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</a:rPr>
              <a:t>Mix des énergies renouvelables en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cteur droit 4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00040" y="181116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Bell MT"/>
              </a:rPr>
              <a:t>Principaux tex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Bell MT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a loi n° 2009-7 du 9 février 2009 modifiant et complétant la loi n° 2004-72 du 2 août 2004  relative à la maîtrise de l’é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oi n° 2015-12 du 11 mai 2015, relative à la production d'électricité à partir des énergies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e décret n° 2016-1123 du 24 aout 2016 fixant les conditions et les procédures de réalisation des projets de production et de vente de l’électricité à partir des énergies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Bell MT"/>
              </a:rPr>
              <a:t>Le décret n° 2009-362 du 9 février 2009 modifiant et complétant le décret n° 2005-2234 du 22 août 200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699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519120" y="160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Arial"/>
                <a:ea typeface="Arial"/>
              </a:rPr>
              <a:t>L’outil législatif et régle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5"/>
          <p:cNvSpPr/>
          <p:nvPr/>
        </p:nvSpPr>
        <p:spPr>
          <a:xfrm>
            <a:off x="3240" y="907920"/>
            <a:ext cx="9144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7:51:16Z</dcterms:created>
  <dc:creator>mohamed amine samet</dc:creator>
  <dc:description/>
  <dc:language>en-US</dc:language>
  <cp:lastModifiedBy>KarimN</cp:lastModifiedBy>
  <cp:lastPrinted>2016-01-11T16:00:34Z</cp:lastPrinted>
  <dcterms:modified xsi:type="dcterms:W3CDTF">2016-10-20T07:17:59Z</dcterms:modified>
  <cp:revision>2534</cp:revision>
  <dc:subject/>
  <dc:title>Diapositive 1</dc:title>
</cp:coreProperties>
</file>